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8.gif" ContentType="image/gif"/>
  <Override PartName="/ppt/media/image19.jpeg" ContentType="image/jpeg"/>
  <Override PartName="/ppt/media/image1.jpeg" ContentType="image/jpeg"/>
  <Override PartName="/ppt/media/image17.wmf" ContentType="image/x-wmf"/>
  <Override PartName="/ppt/media/image15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D632-5248-4AD1-8EC1-35DFBE80F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BA65-8FCE-4325-A8E8-60BA76798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8FDB-DD9F-4A75-8D29-FABC638A0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431B-59AE-4664-982D-39F02B77C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6FE7B-0210-40F2-B785-8B57CF6FD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BE4F1-1DFA-4C1D-BF30-2AB98B986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15B9C-B1FA-48CC-8307-3D3CE8948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8AFBC-3113-40C6-86C9-9725C9967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B7B7A-61F9-49AA-8E00-7525F0967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064E9-A262-42B9-A7B9-C9A56C4B0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AE9F5-6F4E-4A7B-B7FF-C5D8E1A3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55D2-D344-440D-84D1-CE8849992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8D237-FFB2-4DD7-A182-4573A852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FA454-C86D-42EA-A259-06D5DB42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C7752-F75F-4B60-AE1B-8697469B5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FB663-CE69-4263-BE3E-2B202733F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0BD72-FF30-4FB8-A54D-B8D5836F8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011D59-734A-4023-BBAB-7D6BB92F6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34AD5B-4C50-491C-8A61-2B4628BA8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8A4F84-EC49-4169-A376-D20F06DE6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2D4BFC-36AA-42CD-931B-B7E3E6EBE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B7222E-6F22-4D89-8171-3D9DF7514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80C5-E888-4309-A7A3-132B22B8D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213450-9192-44E3-BBE3-46E331903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7D4A48-FA6C-4E02-936F-A90A65F1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28F960-E5DF-4791-A3D0-5CB7FA39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2A0239-CA9A-41FB-B1B8-DC8DBCA5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014537-73ED-4E2C-B1E9-4517FF111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87B9A5-9037-4FA9-8FC3-3E8FB93E1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21EFAF-3FF7-42E5-830C-86E7C2A7F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BA96-5A7D-4743-90F1-7F9CE04CA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70F6-7EB3-4302-9279-F0BA86995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EC53-02BD-4F91-A1D2-6F15529F4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8168-4119-41FD-868B-635AF73B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5BCA-E3FE-4AFC-9BAB-C9B654C7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A8C2-D61F-4A31-B280-DDBEC9CE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19C5B-A029-4B55-BCDD-BC236A450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2DC1E-9A0B-4777-AC9F-0296C62654D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912C5-A908-4CA2-B8FE-3D2D816076C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becausebeta.files.wordpress.com/2008/02/brain-small.jpg&amp;imgrefurl=http://becausebeta.wordpress.com/2008/02/20/thought-controlled-computers-a-reality/&amp;h=300&amp;w=300&amp;sz=25&amp;hl=en&amp;start=27&amp;usg=__4ien0uSxpl0EBfGcRE2wWt3R4r0=&amp;tbnid=rmI3aOgpKZFZsM:&amp;tbnh=116&amp;tbnw=116&amp;prev=/images%3Fq%3Dthe%2Bbrain%26start%3D18%26gbv%3D2%26ndsp%3D18%26hl%3Den%26safe%3Dactive%26sa%3DN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cast.org/teachingeverystudent/ideas/tes/chapter2.cfm" TargetMode="Externa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gif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838080" y="213372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sert Meeting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arter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80880" y="685800"/>
            <a:ext cx="815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rticipatory Cultu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2971800"/>
            <a:ext cx="9144000" cy="7038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vantGarde"/>
              </a:rPr>
              <a:t>Some type of informal men</a:t>
            </a:r>
            <a:r>
              <a:rPr b="0" lang="en-US" sz="2000" spc="-1" strike="noStrike">
                <a:solidFill>
                  <a:srgbClr val="ff0000"/>
                </a:solidFill>
                <a:latin typeface="AvantGarde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AvantGarde"/>
              </a:rPr>
              <a:t>orship whereby what is known by the most experienced is passed along to novi</a:t>
            </a:r>
            <a:r>
              <a:rPr b="0" lang="en-US" sz="2000" spc="-1" strike="noStrike">
                <a:solidFill>
                  <a:srgbClr val="ff0000"/>
                </a:solidFill>
                <a:latin typeface="AvantGarde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vantGarde"/>
              </a:rPr>
              <a:t>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80880" y="685800"/>
            <a:ext cx="815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rticipatory Cultu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3200400"/>
            <a:ext cx="8458200" cy="3988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vantGarde"/>
              </a:rPr>
              <a:t>W</a:t>
            </a:r>
            <a:r>
              <a:rPr b="0" lang="en-US" sz="2000" spc="-1" strike="noStrike">
                <a:solidFill>
                  <a:srgbClr val="ff0000"/>
                </a:solidFill>
                <a:latin typeface="AvantGarde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AvantGarde"/>
              </a:rPr>
              <a:t>ere members believe that their contributions matt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80880" y="685800"/>
            <a:ext cx="815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rticipatory Cultu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2666880"/>
            <a:ext cx="9144000" cy="10087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AvantGarde"/>
              </a:rPr>
              <a:t>Where me</a:t>
            </a:r>
            <a:r>
              <a:rPr b="0" lang="en" sz="2000" spc="-1" strike="noStrike">
                <a:solidFill>
                  <a:srgbClr val="ff0000"/>
                </a:solidFill>
                <a:latin typeface="AvantGarde"/>
              </a:rPr>
              <a:t>m</a:t>
            </a:r>
            <a:r>
              <a:rPr b="0" lang="en" sz="2000" spc="-1" strike="noStrike">
                <a:solidFill>
                  <a:srgbClr val="ffffff"/>
                </a:solidFill>
                <a:latin typeface="AvantGarde"/>
              </a:rPr>
              <a:t>bers feel some degree of social connection with one another (at the least they care what other people thin</a:t>
            </a:r>
            <a:r>
              <a:rPr b="0" lang="en" sz="2000" spc="-1" strike="noStrike">
                <a:solidFill>
                  <a:srgbClr val="ff0000"/>
                </a:solidFill>
                <a:latin typeface="AvantGarde"/>
              </a:rPr>
              <a:t>k</a:t>
            </a:r>
            <a:r>
              <a:rPr b="0" lang="en" sz="2000" spc="-1" strike="noStrike">
                <a:solidFill>
                  <a:srgbClr val="ffffff"/>
                </a:solidFill>
                <a:latin typeface="AvantGarde"/>
              </a:rPr>
              <a:t> about what they have created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391520" cy="57913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600200" y="609480"/>
            <a:ext cx="2171880" cy="347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724280" y="2971800"/>
            <a:ext cx="2381400" cy="30193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1066680"/>
            <a:ext cx="85345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rticipatory Culture on the we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o…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articipatory Culture in the classro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066320" y="304920"/>
            <a:ext cx="6629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Universal Desi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33520" y="5029200"/>
            <a:ext cx="1904760" cy="14572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581280" y="5029200"/>
            <a:ext cx="1981440" cy="14479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6705720" y="5029200"/>
            <a:ext cx="1981080" cy="14400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3200400" y="2057400"/>
            <a:ext cx="2590920" cy="18288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52280" y="380880"/>
            <a:ext cx="876312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nivers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 Design for Learning (UD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590920" y="1676520"/>
            <a:ext cx="3733560" cy="12189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154" name="" descr="Book Cover: Teaching Every Student"/>
          <p:cNvPicPr/>
          <p:nvPr/>
        </p:nvPicPr>
        <p:blipFill>
          <a:blip r:embed="rId2"/>
          <a:stretch/>
        </p:blipFill>
        <p:spPr>
          <a:xfrm>
            <a:off x="3505320" y="3581280"/>
            <a:ext cx="2057400" cy="25909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117880" y="569880"/>
            <a:ext cx="100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82800" y="2286000"/>
            <a:ext cx="3228840" cy="19224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</a:rPr>
              <a:t>UD</a:t>
            </a:r>
            <a:r>
              <a:rPr b="0" lang="en-US" sz="12000" spc="-1" strike="noStrike">
                <a:solidFill>
                  <a:srgbClr val="ff0000"/>
                </a:solidFill>
                <a:latin typeface="Arial"/>
              </a:rPr>
              <a:t>L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496280" cy="53150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158" name=""/>
          <p:cNvSpPr/>
          <p:nvPr/>
        </p:nvSpPr>
        <p:spPr>
          <a:xfrm>
            <a:off x="304920" y="5943600"/>
            <a:ext cx="457200" cy="6620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62040"/>
              <a:gd name="textAreaBottom" fmla="*/ 632520 h 662040"/>
            </a:gdLst>
            <a:ahLst/>
            <a:rect l="textAreaLeft" t="textAreaTop" r="textAreaRight" b="textAreaBottom"/>
            <a:pathLst>
              <a:path w="21600" h="31270">
                <a:moveTo>
                  <a:pt x="0" y="0"/>
                </a:moveTo>
                <a:lnTo>
                  <a:pt x="21600" y="0"/>
                </a:lnTo>
                <a:lnTo>
                  <a:pt x="21600" y="31270"/>
                </a:lnTo>
                <a:lnTo>
                  <a:pt x="0" y="31270"/>
                </a:lnTo>
                <a:close/>
              </a:path>
              <a:path fill="lightenLess" w="21600" h="3127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1270">
                <a:moveTo>
                  <a:pt x="21600" y="0"/>
                </a:moveTo>
                <a:lnTo>
                  <a:pt x="21600" y="31270"/>
                </a:lnTo>
                <a:lnTo>
                  <a:pt x="20200" y="29870"/>
                </a:lnTo>
                <a:lnTo>
                  <a:pt x="20200" y="1400"/>
                </a:lnTo>
                <a:close/>
              </a:path>
              <a:path fill="darkenLess" w="21600" h="31270">
                <a:moveTo>
                  <a:pt x="21600" y="31270"/>
                </a:moveTo>
                <a:lnTo>
                  <a:pt x="0" y="31270"/>
                </a:lnTo>
                <a:lnTo>
                  <a:pt x="1400" y="29870"/>
                </a:lnTo>
                <a:lnTo>
                  <a:pt x="20200" y="29870"/>
                </a:lnTo>
                <a:close/>
              </a:path>
              <a:path fill="lighten" w="21600" h="31270">
                <a:moveTo>
                  <a:pt x="0" y="31270"/>
                </a:moveTo>
                <a:lnTo>
                  <a:pt x="0" y="0"/>
                </a:lnTo>
                <a:lnTo>
                  <a:pt x="1400" y="1400"/>
                </a:lnTo>
                <a:lnTo>
                  <a:pt x="1400" y="29870"/>
                </a:lnTo>
                <a:close/>
              </a:path>
              <a:path fill="darken" w="21600" h="31270">
                <a:moveTo>
                  <a:pt x="3794" y="12136"/>
                </a:moveTo>
                <a:lnTo>
                  <a:pt x="4707" y="12136"/>
                </a:lnTo>
                <a:lnTo>
                  <a:pt x="5090" y="12502"/>
                </a:lnTo>
                <a:lnTo>
                  <a:pt x="14299" y="12502"/>
                </a:lnTo>
                <a:lnTo>
                  <a:pt x="14856" y="13059"/>
                </a:lnTo>
                <a:lnTo>
                  <a:pt x="14856" y="13607"/>
                </a:lnTo>
                <a:lnTo>
                  <a:pt x="16701" y="13607"/>
                </a:lnTo>
                <a:lnTo>
                  <a:pt x="17067" y="13059"/>
                </a:lnTo>
                <a:lnTo>
                  <a:pt x="17806" y="13059"/>
                </a:lnTo>
                <a:lnTo>
                  <a:pt x="17806" y="18211"/>
                </a:lnTo>
                <a:lnTo>
                  <a:pt x="17067" y="18211"/>
                </a:lnTo>
                <a:lnTo>
                  <a:pt x="16701" y="17663"/>
                </a:lnTo>
                <a:lnTo>
                  <a:pt x="14856" y="17663"/>
                </a:lnTo>
                <a:lnTo>
                  <a:pt x="14856" y="18942"/>
                </a:lnTo>
                <a:lnTo>
                  <a:pt x="5273" y="18942"/>
                </a:lnTo>
                <a:lnTo>
                  <a:pt x="5273" y="14712"/>
                </a:lnTo>
                <a:lnTo>
                  <a:pt x="5090" y="14712"/>
                </a:lnTo>
                <a:lnTo>
                  <a:pt x="4707" y="15078"/>
                </a:lnTo>
                <a:lnTo>
                  <a:pt x="3794" y="15078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hat do we know about the brain and diverse learner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-360" y="335772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Successful meaning making depends on the complex interaction of overlapping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676520" y="685800"/>
            <a:ext cx="5333760" cy="44197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125" name=""/>
          <p:cNvSpPr/>
          <p:nvPr/>
        </p:nvSpPr>
        <p:spPr>
          <a:xfrm>
            <a:off x="1295280" y="5638680"/>
            <a:ext cx="632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come (Back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7236000" y="4941720"/>
            <a:ext cx="1296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fective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e and Set Prior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04000" y="4905360"/>
            <a:ext cx="2087640" cy="19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067280" y="4913280"/>
            <a:ext cx="2087280" cy="19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4067280" y="4868280"/>
            <a:ext cx="1944720" cy="1989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71640" y="5013360"/>
            <a:ext cx="1800000" cy="1844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71640" y="5084640"/>
            <a:ext cx="1871640" cy="1773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219640" y="333360"/>
            <a:ext cx="2881440" cy="251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435640" y="765000"/>
            <a:ext cx="244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rning is distributed across three interconnected brain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700000" y="2276640"/>
            <a:ext cx="2592360" cy="23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5435640" y="2924280"/>
            <a:ext cx="50472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451640" y="321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020000" y="2997360"/>
            <a:ext cx="647640" cy="143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26920" y="4437000"/>
            <a:ext cx="2087640" cy="19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00000" y="4705200"/>
            <a:ext cx="201636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gnition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eive and Analyz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140360" y="4581360"/>
            <a:ext cx="2087280" cy="19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427640" y="4869000"/>
            <a:ext cx="153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rategic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nning and Execution of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948360" y="4581360"/>
            <a:ext cx="2051280" cy="2017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164360" y="4869000"/>
            <a:ext cx="165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ffective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aluate and Set Prior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5280" y="260280"/>
            <a:ext cx="1728720" cy="432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4000" y="333360"/>
            <a:ext cx="190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33cc"/>
                </a:solidFill>
                <a:uFillTx/>
                <a:latin typeface="Arial"/>
                <a:hlinkClick r:id="rId2"/>
              </a:rPr>
              <a:t>Learning Link: C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7236000" y="4941720"/>
            <a:ext cx="1296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fective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e and Set Prior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04000" y="4905360"/>
            <a:ext cx="2087640" cy="19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067280" y="4913280"/>
            <a:ext cx="2087280" cy="19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4067280" y="4868280"/>
            <a:ext cx="1944720" cy="1989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71640" y="5013360"/>
            <a:ext cx="1800000" cy="1844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71640" y="5084640"/>
            <a:ext cx="1871640" cy="1773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219640" y="333360"/>
            <a:ext cx="2881440" cy="251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435640" y="765000"/>
            <a:ext cx="244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rning is distributed across three interconnected brain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700000" y="2276640"/>
            <a:ext cx="2592360" cy="23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5435640" y="2924280"/>
            <a:ext cx="50472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451640" y="321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020000" y="2997360"/>
            <a:ext cx="647640" cy="143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26920" y="4437000"/>
            <a:ext cx="2087640" cy="19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00000" y="4705200"/>
            <a:ext cx="201636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gnition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eive and Analyz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140360" y="4581360"/>
            <a:ext cx="2087280" cy="19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427640" y="4869000"/>
            <a:ext cx="153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rategic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nning and Execution of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948360" y="4581360"/>
            <a:ext cx="2051280" cy="2017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164360" y="4869000"/>
            <a:ext cx="165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ffective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aluate and Set Prior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5280" y="260280"/>
            <a:ext cx="1728720" cy="432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4000" y="333360"/>
            <a:ext cx="190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rning Link: C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372360" y="4869000"/>
            <a:ext cx="11714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YES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012000" y="2349360"/>
            <a:ext cx="1844640" cy="19335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5148360" y="1700280"/>
            <a:ext cx="3527280" cy="38163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 Black"/>
              </a:rPr>
              <a:t>When meeting the needs of a Diverse Group of Learners </a:t>
            </a:r>
            <a:br>
              <a:rPr sz="3300"/>
            </a:br>
            <a:r>
              <a:rPr b="1" lang="en-US" sz="3300" spc="-1" strike="noStrike">
                <a:solidFill>
                  <a:srgbClr val="000000"/>
                </a:solidFill>
                <a:latin typeface="Arial Black"/>
              </a:rPr>
              <a:t>Do We…</a:t>
            </a:r>
            <a:r>
              <a:rPr b="1" lang="en-US" sz="33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132000" y="1844640"/>
            <a:ext cx="712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1" lang="en-US" sz="6000" spc="-1" strike="noStrike">
                <a:solidFill>
                  <a:srgbClr val="800000"/>
                </a:solidFill>
                <a:latin typeface="Arial"/>
              </a:rPr>
              <a:t>Fix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urriculum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95640" y="2637000"/>
            <a:ext cx="136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455840" y="5248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24000" y="1484280"/>
            <a:ext cx="3671640" cy="3745080"/>
          </a:xfrm>
          <a:prstGeom prst="ellipse">
            <a:avLst/>
          </a:prstGeom>
          <a:solidFill>
            <a:srgbClr val="99cc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116000" y="1844640"/>
            <a:ext cx="223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1" lang="en-US" sz="5400" spc="-1" strike="noStrike">
                <a:solidFill>
                  <a:srgbClr val="800000"/>
                </a:solidFill>
                <a:latin typeface="Arial"/>
              </a:rPr>
              <a:t>Fix”</a:t>
            </a: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he child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684000" y="2133720"/>
            <a:ext cx="2879640" cy="2303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77080" y="4581360"/>
            <a:ext cx="1800360" cy="1727280"/>
          </a:xfrm>
          <a:prstGeom prst="ellipse">
            <a:avLst/>
          </a:prstGeom>
          <a:solidFill>
            <a:srgbClr val="99cc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7236000" y="5084640"/>
            <a:ext cx="1085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Yes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57200" y="0"/>
            <a:ext cx="8424720" cy="63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 can we support diverse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i="1" lang="en-US" sz="4000" spc="-1" strike="noStrike">
                <a:solidFill>
                  <a:srgbClr val="ff0000"/>
                </a:solidFill>
                <a:latin typeface="Arial Black"/>
              </a:rPr>
              <a:t>strategic</a:t>
            </a:r>
            <a:r>
              <a:rPr b="0" lang="en-US" sz="4000" spc="-1" strike="noStrike">
                <a:solidFill>
                  <a:srgbClr val="ffffff"/>
                </a:solidFill>
                <a:latin typeface="Rockwell Extra Bold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twor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1" i="1" lang="en-US" sz="4000" spc="-1" strike="noStrike">
                <a:solidFill>
                  <a:srgbClr val="ff0000"/>
                </a:solidFill>
                <a:latin typeface="Arial Black"/>
              </a:rPr>
              <a:t>recognition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networ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1" i="1" lang="en-US" sz="4000" spc="-1" strike="noStrike">
                <a:solidFill>
                  <a:srgbClr val="ff0000"/>
                </a:solidFill>
                <a:latin typeface="Arial Black"/>
              </a:rPr>
              <a:t>affectiv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networks b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 rot="388200">
            <a:off x="3276720" y="4047480"/>
            <a:ext cx="3841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391520" cy="57913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80880" y="380880"/>
            <a:ext cx="8382240" cy="54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What about </a:t>
            </a: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“di</a:t>
            </a:r>
            <a:r>
              <a:rPr b="0" lang="en-US" sz="8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ferentiation?”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Low tech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High te</a:t>
            </a: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676520" y="2286000"/>
            <a:ext cx="5943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tachment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24000" y="836640"/>
            <a:ext cx="84596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Individualizing the ways that students work toward goals is feasible if a variety of tools and media are availabl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990720" y="-152280"/>
            <a:ext cx="7391160" cy="79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y Fav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rite…Kid Favour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is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apt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l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t ar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95280" y="5334120"/>
            <a:ext cx="670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Free</a:t>
            </a: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3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04920" y="251460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ww.changefromthemargins.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ikispac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914400" y="1295280"/>
            <a:ext cx="72388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ere are you f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re of Your Bea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04920" y="762120"/>
            <a:ext cx="8610480" cy="56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s in any revolution, students (and 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ducators!) in the margins are likely to lead the way, precipitating sh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fts in thinking that will open vast 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portunities for educational reform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se &amp; Me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6560" y="188640"/>
            <a:ext cx="620244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Parting Thoughts…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ff9900"/>
                </a:solidFill>
                <a:latin typeface="Tahoma"/>
              </a:rPr>
              <a:t>Scorn Not His Simplicity</a:t>
            </a:r>
            <a:br>
              <a:rPr sz="1600"/>
            </a:br>
            <a:r>
              <a:rPr b="1" lang="en-US" sz="1600" spc="-1" strike="noStrike">
                <a:solidFill>
                  <a:srgbClr val="ff9900"/>
                </a:solidFill>
                <a:latin typeface="Tahoma"/>
              </a:rPr>
              <a:t>(Lyrics Phil Coulter)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4788000" y="981000"/>
            <a:ext cx="2592360" cy="42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200"/>
            </a:b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Scorn not his simplicity,</a:t>
            </a:r>
            <a:br>
              <a:rPr sz="1200"/>
            </a:b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But rather try to love him all the more.</a:t>
            </a:r>
            <a:br>
              <a:rPr sz="1200"/>
            </a:b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Scorn not his simplicity,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Only he knows how to face the future hopefully,</a:t>
            </a:r>
            <a:br>
              <a:rPr sz="1200"/>
            </a:b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Surrounded by despair.</a:t>
            </a:r>
            <a:br>
              <a:rPr sz="1200"/>
            </a:b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He won't ask for your pity or your sympathy;</a:t>
            </a:r>
            <a:br>
              <a:rPr sz="1200"/>
            </a:b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But surely you should care.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Scorn not his simplicity,</a:t>
            </a:r>
            <a:br>
              <a:rPr sz="1200"/>
            </a:b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But rather try to love him all the more</a:t>
            </a:r>
            <a:br>
              <a:rPr sz="1200"/>
            </a:b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Scorn not his simplicity,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55640" y="1562040"/>
            <a:ext cx="309564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See the child</a:t>
            </a:r>
            <a:br>
              <a:rPr sz="1200"/>
            </a:b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With the golden hair</a:t>
            </a:r>
            <a:br>
              <a:rPr sz="1200"/>
            </a:b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Yet eyes that show the emptiness inside.</a:t>
            </a:r>
            <a:br>
              <a:rPr sz="1200"/>
            </a:b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Do we know...</a:t>
            </a:r>
            <a:br>
              <a:rPr sz="1200"/>
            </a:b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Can we understand just </a:t>
            </a: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how he feels,</a:t>
            </a:r>
            <a:br>
              <a:rPr sz="1200"/>
            </a:b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Or have we really tried ?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See him now</a:t>
            </a:r>
            <a:br>
              <a:rPr sz="1200"/>
            </a:b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As he stands alone</a:t>
            </a:r>
            <a:br>
              <a:rPr sz="1200"/>
            </a:b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And watches children play a children's game.</a:t>
            </a:r>
            <a:br>
              <a:rPr sz="1200"/>
            </a:b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Simple child,</a:t>
            </a:r>
            <a:br>
              <a:rPr sz="1200"/>
            </a:b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He looks almost like the others,</a:t>
            </a:r>
            <a:br>
              <a:rPr sz="1200"/>
            </a:b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Yet they know he's not the same.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Scorn not his simplicity,</a:t>
            </a:r>
            <a:br>
              <a:rPr sz="1200"/>
            </a:b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But rather try to love him all the more.</a:t>
            </a:r>
            <a:br>
              <a:rPr sz="1200"/>
            </a:b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Scorn not his simplicity,</a:t>
            </a:r>
            <a:br>
              <a:rPr sz="1200"/>
            </a:b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Oh no.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See him stare...</a:t>
            </a:r>
            <a:br>
              <a:rPr sz="1200"/>
            </a:b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Not recognizing the kind face</a:t>
            </a:r>
            <a:br>
              <a:rPr sz="1200"/>
            </a:b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That only yesterday he loved.</a:t>
            </a:r>
            <a:br>
              <a:rPr sz="1200"/>
            </a:b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The loving face of a mother </a:t>
            </a:r>
            <a:br>
              <a:rPr sz="1200"/>
            </a:b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who can't understand what she's been guilty of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Provincial Outreach Program for Fetal Alcohol Spectrum Disorder (POPFASD)"/>
          <p:cNvPicPr/>
          <p:nvPr/>
        </p:nvPicPr>
        <p:blipFill>
          <a:blip r:embed="rId1"/>
          <a:stretch/>
        </p:blipFill>
        <p:spPr>
          <a:xfrm>
            <a:off x="304920" y="990720"/>
            <a:ext cx="8334360" cy="13525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057400" y="3048120"/>
            <a:ext cx="4952880" cy="25905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09480" y="838080"/>
            <a:ext cx="8534520" cy="48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udents (and educators!), “on the ma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ins” can actually lead the way to true reform because they help us understand the we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nesses in our educational system and curricula th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 impede teaching and learning for al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avid Rose &amp; Anne Meyer (CAS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Participatory C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ture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b 2.0/3.0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28600" y="2637720"/>
            <a:ext cx="8534520" cy="21949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We li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 in a deluge of choices. In almost every area of life, Americans have a wider freedom of ch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ce today than ever in our history, including new kinds of jobs, new foods, new religions, new technologies, and new forms of com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unication and interaction. (Microtrends. p.xvi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685800"/>
            <a:ext cx="815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rticipatory Cultu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80880" y="228600"/>
            <a:ext cx="815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rticipatory Cultu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280" y="2514600"/>
            <a:ext cx="8991720" cy="3988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vantGarde"/>
              </a:rPr>
              <a:t>relatively low barriers to art</a:t>
            </a:r>
            <a:r>
              <a:rPr b="0" lang="en-US" sz="2000" spc="-1" strike="noStrike">
                <a:solidFill>
                  <a:srgbClr val="ff0000"/>
                </a:solidFill>
                <a:latin typeface="AvantGarde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AvantGarde"/>
              </a:rPr>
              <a:t>stic expression and civic engagement</a:t>
            </a:r>
            <a:r>
              <a:rPr b="0" lang="en-US" sz="1800" spc="-1" strike="noStrike">
                <a:solidFill>
                  <a:srgbClr val="ffffff"/>
                </a:solidFill>
                <a:latin typeface="AvantGar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0880" y="685800"/>
            <a:ext cx="815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rticipatory Cultu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819520"/>
            <a:ext cx="9144000" cy="4597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vantGarde"/>
              </a:rPr>
              <a:t>strong support for creating and sharing one’s creations with others</a:t>
            </a:r>
            <a:r>
              <a:rPr b="0" lang="en-US" sz="2400" spc="-1" strike="noStrike">
                <a:solidFill>
                  <a:srgbClr val="ffffff"/>
                </a:solidFill>
                <a:latin typeface="Antique Olive Compac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13:55:38Z</dcterms:created>
  <dc:creator>user</dc:creator>
  <dc:description/>
  <dc:language>en-US</dc:language>
  <cp:lastModifiedBy>user</cp:lastModifiedBy>
  <dcterms:modified xsi:type="dcterms:W3CDTF">2010-01-21T18:45:42Z</dcterms:modified>
  <cp:revision>23</cp:revision>
  <dc:subject/>
  <dc:title>Accessible Learning</dc:title>
</cp:coreProperties>
</file>